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B33E-5114-4580-9A64-7F45CE09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CA6E-3BBA-44E2-B287-0E8FA0C3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6A83C-5F0F-4E6D-94AB-27ADC9DD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40DC-0F6A-4DCF-BBDB-F7EE2F85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9752-8AD6-4910-AE00-B4FAF7B8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025D-AB01-43C0-81E8-99A323C4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C14F-B51C-4BF8-8966-70023B46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1BCB-5140-4734-83A7-FC22ABD4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C585-9D79-40D3-8E18-CC90F8CB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91CB-E83F-4163-B38D-826C1317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84CB-DEB4-427D-904D-D22917B7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980B-097A-4CEA-AD7B-85989C43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D39B-9FFD-46DF-9475-6CDDCBFB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1DE6-CDB5-422F-B1DB-A5F71D0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41A9-353C-4650-BE2E-1E7A974C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E367-5779-47A5-A941-53738337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BB74-17B9-410A-B95F-A2CD16EF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B838-1109-473B-9D29-5AD367F8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D95A-62F3-4018-89B1-3099C17A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5A4D-1760-4BCD-BFE6-35233D43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AFFF-1EFD-481A-9259-C5354554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0E61-1B58-4EBF-8384-D6124B46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DE48-535C-47AA-BACD-7A6A6E37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EEA9-6968-428D-BAF9-60DA23E0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2D5F-95A0-4679-951C-A8228F0CEE1C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384D-BAC3-46A9-BD4D-EC634817701C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99"/>
                </a:solidFill>
                <a:latin typeface="Tahoma"/>
              </a:rPr>
              <a:t>2013</a:t>
            </a:r>
            <a:r>
              <a:rPr b="0" lang="zh-CN" sz="5400" spc="-1" strike="noStrike">
                <a:solidFill>
                  <a:srgbClr val="ccff99"/>
                </a:solidFill>
                <a:latin typeface="Tahoma"/>
              </a:rPr>
              <a:t>级学年论文任务发布会暨指导教师见面会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47960" y="5409720"/>
            <a:ext cx="4267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16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外语学院日语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-zou</cp:lastModifiedBy>
  <dcterms:modified xsi:type="dcterms:W3CDTF">2016-04-10T13:48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